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gif" ContentType="image/gif"/>
  <Override PartName="/ppt/media/image23.gif" ContentType="image/gif"/>
  <Override PartName="/ppt/media/image21.wmf" ContentType="image/x-wmf"/>
  <Override PartName="/ppt/media/image19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3E2-DAF4-4F79-890A-A0EE1380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AA5-D929-4C84-8410-DC2AB18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653-3FAD-4D0B-863D-E942E984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390-44A8-43CD-B590-2A5A485C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3EC-52BF-4DD6-AE87-E7380995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F84-21B6-495F-AFB1-C2CFEBCB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106-74B3-4353-9A22-5C6C0960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62E-9448-410F-88FB-32D76E87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729-9DA7-4B54-B302-00DE104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30A-BB46-400C-B675-AB76AC3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5AF-C50A-4ACD-BB7F-EF9BD4B4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CD9-DF2E-4E1E-BD10-8A5EE1A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425-C3D8-48DB-B794-CC92A007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1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64072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76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76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34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1341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184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im /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24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2421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o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29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29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35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4005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458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5157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. po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9500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s used when refering to                     plural objects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5950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ngular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patata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248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92360" y="4149720"/>
            <a:ext cx="63356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ali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3959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89000"/>
            <a:ext cx="2952720" cy="55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en salsa) ali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112536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ve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 básica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ist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umo de l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(en salsa)  bra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boquerones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4005360"/>
            <a:ext cx="770400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berenjenas con miel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179856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804000" y="227664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944720" cy="156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95280" y="2060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6804000" y="549360"/>
            <a:ext cx="1943280" cy="145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572000" y="549360"/>
            <a:ext cx="2016000" cy="132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2340000" y="33336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684360" y="260280"/>
            <a:ext cx="107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Una dieta equilibr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1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ana o mals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m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20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3168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ri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4005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86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teria g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1773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azuc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445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vise use of gu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learn some key, delicious, tapas voc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ad a text about the history and origins of 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learn more about the effects of f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ad about the effect of the Mediterranean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en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087640" cy="1447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84360" y="220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rn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ech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511280" cy="131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56000" y="5300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legumb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en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it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8492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736640" cy="168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06200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9640" y="5013360"/>
            <a:ext cx="1295640" cy="133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84360" y="1989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siada charcutería 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36450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asteles tienen demasiad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373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hamburguesas tienen mu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co 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0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457720" cy="27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40360" y="213372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hocolate tiene mucha azú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o me gusta comerlo cuando estoy depri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4365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onseja beber vino en mod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ignifica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colesto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vit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cal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mod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pro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materia g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a comida (mal) 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ignifica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colesto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vit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cal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mod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pro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materia g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a comida (mal) 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opinas de…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costillas de c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salchi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salmón ahu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bebidas alcoh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q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zumo de naranj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a tableta d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1857240" cy="1462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8046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este artículo. ¿Lleva una vida sana? ¿Por qu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000" y="1341360"/>
            <a:ext cx="914400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o que soy como la mayoría de la población britán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eral odio cocinar entonces compro muchos productos pre-cocinados y comida rápida. Como unas cuatro hamburguesas a la semana y por supuesto bebo muchos refrescos. Sin embargo cuando voy a la casa de mis padres, como muchos productos que tienen vitaminas y proteínas. Mi madre insiste en que coma carne y al menos dos piezas de fruta. Y nunca se bebe Coca-Cola. Siempre pone una botella de agua mineral en la mesa. En cuanto a los productos azucarados, la verdad es que como muy pocos pasteles o caramel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ando tengo tiempo hago deporte, pero soy bastante perezoso entonces prefiero sentarme delante de la tele y hacer el zap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¿Crees que llevo una vida sana o malsan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46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El consumo mod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708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800" spc="-1" strike="noStrike">
                <a:solidFill>
                  <a:srgbClr val="000000"/>
                </a:solidFill>
                <a:latin typeface="Comic Sans MS"/>
              </a:rPr>
              <a:t>Se caracteriza p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9370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 obesidad infa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08464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Una dieta salud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35640" y="5013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s cal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564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Se deb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2781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Fuente de gr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620640"/>
            <a:ext cx="2808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La alimentaci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5640" y="260280"/>
            <a:ext cx="280836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La esperanza de vid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464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hildhood obe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708280"/>
            <a:ext cx="28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800" spc="-1" strike="noStrike">
                <a:solidFill>
                  <a:srgbClr val="000000"/>
                </a:solidFill>
                <a:latin typeface="Comic Sans MS"/>
              </a:rPr>
              <a:t>Source of f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937040"/>
            <a:ext cx="280836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ife </a:t>
            </a: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expectanc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08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35640" y="5013360"/>
            <a:ext cx="2808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Moderate </a:t>
            </a: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consump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5640" y="2637000"/>
            <a:ext cx="2808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cy-GB" sz="3000" spc="-1" strike="noStrike">
                <a:solidFill>
                  <a:srgbClr val="000000"/>
                </a:solidFill>
                <a:latin typeface="Comic Sans MS"/>
              </a:rPr>
              <a:t>characterised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2781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al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20640"/>
            <a:ext cx="280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One shoul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35640" y="260280"/>
            <a:ext cx="2808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A healthy di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chorizo en vino ti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046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El consumo mod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708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800" spc="-1" strike="noStrike">
                <a:solidFill>
                  <a:srgbClr val="000000"/>
                </a:solidFill>
                <a:latin typeface="Comic Sans MS"/>
              </a:rPr>
              <a:t>Se caracteriza p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9370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 obesidad infa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08464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Una dieta salud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35640" y="5013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s cal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3564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Se deb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2781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Fuente de gr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0640"/>
            <a:ext cx="2808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La alimentaci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260280"/>
            <a:ext cx="280836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La esperanza de vid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0920" y="1890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¿Qué capacidad está afectada por una dieta poca s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¿Qué grupo fue estudi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¿Se ha realizado cuántos estudios sobre el tema en el pas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¿Comer una dieta de estilo mediterráneo puede ayudar a evitar qué enfermedad en partic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. ¿Qué pasó a la gente que siguió el plan con deter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mayores de 6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enfermedad de Alzhe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riesgo de la enfermedad de Alzheimer bajó casi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414972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gazpach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 tortilla espa</a:t>
            </a:r>
            <a:r>
              <a:rPr b="0" lang="en-GB" sz="8000" spc="-1" strike="noStrike">
                <a:solidFill>
                  <a:srgbClr val="ff0000"/>
                </a:solidFill>
                <a:latin typeface="Arial"/>
                <a:ea typeface="Arial"/>
              </a:rPr>
              <a:t>ñ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4824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croque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4751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albondig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calama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0958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472428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gamb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2769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2:39Z</dcterms:created>
  <dc:creator>Owner1</dc:creator>
  <dc:description/>
  <dc:language>en-US</dc:language>
  <cp:lastModifiedBy>Owner1</cp:lastModifiedBy>
  <dcterms:modified xsi:type="dcterms:W3CDTF">2008-10-30T10:25:35Z</dcterms:modified>
  <cp:revision>4</cp:revision>
  <dc:subject/>
  <dc:title>Slide 1</dc:title>
</cp:coreProperties>
</file>